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BAA-6658-4F40-8E5E-94B077B3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4D4-EE47-4C94-8443-33AC2640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355-A00E-4A32-892C-7B74912A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D52-B5F7-45C4-9285-5A2C1B24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5FA4-78E9-487E-8891-D7E980F4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1540-DE9C-43E8-86F7-5C598C6A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D391-305A-4830-994F-1C1334BA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CDB2-EA4B-4005-8FD4-B88989EC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1014-192E-4753-88DD-FD21AAE7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33C2-B61C-4AA4-BF2D-A7E11BFE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62FA-F8FF-4B3B-A17C-FDB7FBBE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FEF-29EF-4A05-9FA4-38680F6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33A5-4AC3-40C1-9CF1-D4EDB05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DD43-D0D6-47AF-B634-456D59B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89B6-F248-4BF0-9F7B-B3A3346A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6603-0D0F-4CF8-964A-104C784B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D702-56B4-4671-B280-6753156B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697-A83D-4FBD-8838-7BEC6E83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C2E-144D-40EB-B8D3-DC423DA5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9FC-F0B7-457D-9F5B-BFC43F36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021-86CC-4B22-978A-041E19E9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D81-85BE-4800-8903-1AA5D4A9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6E6-3C12-4462-8DE1-2DDF7FAC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10B-BB1C-4EDF-B73F-36046B5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124-2C33-40F9-AF18-36DBF40AEE8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4AE7-0F11-4198-9DA7-2E30F0483D2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Bobtnání Nafionu v čistých kapalinách a kapalných směsíc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lena Randová, Štěpán Hovor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stav fyzikální chemie, VŠCHT Prah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znam látek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alkoholy: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zvětšení: rozměr A / rozměr B = 0,13-0,23 / 0,40-0,5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-butanol, 2-butanol, 1-hexanol, 2-methyl-1-propanol, methanol, oktanol, propanol,           t-butan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ketony: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(zvětšení: rozměr A / rozměr B = 0,08-0,12 / 0,21-0,3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-butanon, acetylaceton, cyklopentano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znam látek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alkany: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zvětšení: prakticky žádn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eptan, hexan, toluen, chlorbu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2-složkové směs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hanol-vo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3-složkové směsi: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hanol-voda-sůl : KCl, CaCl2, NaCl, CsCl, LiCl, K2CO3 , KNO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říklad grafu- kinetika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1628640"/>
          <a:ext cx="6842160" cy="42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84216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říklad grafu- kinetik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14560" y="1701720"/>
          <a:ext cx="6914880" cy="40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701720"/>
                    <a:ext cx="69148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53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kalické kovy: mol.% soli: 0,36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71560" y="2349360"/>
          <a:ext cx="7399440" cy="38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2349360"/>
                    <a:ext cx="739944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76520"/>
          <a:ext cx="8229600" cy="43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296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aCl+KC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Další poku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řada methanol/voda s přídavkem obou solí v molárním poměru 1:1, tj. s mol.% NaCl 0,181 a KCl také 0,18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ztoky s menším procentem methanolu se výsledky příliš neliší od aritmetického průměru vytvořeného z hodnot pro jednotlivé soli, při zvětšování množství methanolu převládne vliv KC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aCl+KC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1341360"/>
          <a:ext cx="698508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69850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aCl+KC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42920" y="1341360"/>
          <a:ext cx="698508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69850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aslí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58920" y="1341360"/>
          <a:ext cx="6408720" cy="417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341360"/>
                    <a:ext cx="640872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afion-struk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2490840"/>
            <a:ext cx="6048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ávěr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mentálně se chystáme měřit s roztoky dalších chlorid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 budoucnost přemýšlíme o způsobu měření třetího rozměru membrá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Využití Nafionu v praxi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šičky plyn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mo-methanolové palivové člá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Sušičky plyn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de o chem.rci sulfoskup.s vodo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ovlivňuje plyny vzor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jimka: amoniak, aminy, alkoholy, org.kyseliny a keton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schema sušičky Perma Pure"/>
          <p:cNvPicPr/>
          <p:nvPr/>
        </p:nvPicPr>
        <p:blipFill>
          <a:blip r:embed="rId1"/>
          <a:stretch/>
        </p:blipFill>
        <p:spPr>
          <a:xfrm>
            <a:off x="1835280" y="3776760"/>
            <a:ext cx="47527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cc"/>
                </a:solidFill>
                <a:uFillTx/>
                <a:latin typeface="Tahoma"/>
              </a:rPr>
              <a:t>Přímo-methanolové palivové články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livem článku je methanol, dochází k jeho oxidaci na anodě, přes několik reakčních mezistupň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rovná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) článek s vodíkovou anod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) přímo-methanolový člá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cc"/>
                </a:solidFill>
                <a:uFillTx/>
                <a:latin typeface="Tahoma"/>
              </a:rPr>
              <a:t>Přímo-methanolové palivové článk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pis aparatury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toaparát Oly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udené svět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rmost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číta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gram QuickPHOTO MICRO (Q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gram EXC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Úpravy pro vodu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nímky po nástřiku organických látek nejsou nijak uprav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vodné roztoky třeba upravit - voda v podstatě funguje jako lupa, tzn. zkresluje výsled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stup úpravy: po ustavení rovnováhy se odsaje kapalina mikropipetou a membrána se nasnímá - rozdíl se odečte od rozměrů u snímků s kapalin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hyby, reprodukovatelnost měření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QPM: délka úsečky (v mm) na 3 desetinná mí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 opakovaném měření: tato 2 čísla - rozdíl na 3.desetinném míst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 opakování celého pokusu včetně nového připravení roztoků se výsledky liší maximálně o 1,5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05:26:10Z</dcterms:created>
  <dc:creator>Administrator</dc:creator>
  <dc:description/>
  <dc:language>en-US</dc:language>
  <cp:lastModifiedBy>Alenka</cp:lastModifiedBy>
  <dcterms:modified xsi:type="dcterms:W3CDTF">2005-10-27T12:13:43Z</dcterms:modified>
  <cp:revision>62</cp:revision>
  <dc:subject/>
  <dc:title>Nafion</dc:title>
</cp:coreProperties>
</file>