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524B-83E4-4DE1-A4C1-4D59262AA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F477-312C-42BB-9301-0ED369AF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DB93-2003-42C6-8629-917F0C659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A496-C71C-4A72-8A68-B7450802D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860F-8264-4D57-B885-4237C0FF4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8FEC-DB98-41A1-B0C3-DD1B2121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61B3-A670-469C-83D3-828568A5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3B21-816F-4DFB-802A-7198F4AD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5BE5-428B-4897-BA38-282D5D74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B8EC-BF56-4AF9-9A72-8CDC2668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4C95-A364-4874-B478-AD39E481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7E35-4B5A-47DC-92EB-4658BBCC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8125-488C-4BE9-A5CA-D87442EB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D94F-F2D5-45E6-BCF2-73F453A7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7C4B-7F73-4B12-A387-0686C4E6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FC7B-CA16-4E68-8B6A-A518183A0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D77A-1E2C-40F6-86B2-E2804FF2E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F5F0-A459-4068-B2CE-18532E0D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17F1-58B2-4662-8626-BA43FD5B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A77E-A380-46AF-9F26-CAE6D9D9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A35B-0728-4808-BCC8-3BAE6BFE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F23B-7B49-480A-B2F0-0C42128F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D2B0-D687-4DB1-9AAF-C53C2595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5654-E3BE-4813-80E9-AD6C8201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5739-817B-401F-860F-B4892E37D4F0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6E13-B5CE-4269-A0CB-9E2FD4EC92B7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cc"/>
                </a:solidFill>
                <a:latin typeface="Tahoma"/>
              </a:rPr>
              <a:t>Bobtnání Nafionu v čistých kapalinách a kapalných směsích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03280" y="2781360"/>
            <a:ext cx="64008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lena Randová, Štěpán Hovorka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Ústav fyzikální chemie, VŠCHT Prah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eznam látek: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alkoholy: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(zvětšení: rozměr A / rozměr B = 0,13-0,23 / 0,40-0,5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1-butanol, 2-butanol, 1-hexanol, 2-methyl-1-propanol, methanol, oktanol, propanol,           t-butan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ketony: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(zvětšení: rozměr A / rozměr B = 0,08-0,12 / 0,21-0,3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2-butanon, acetylaceton, cyklopentano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eznam látek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alkany: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(zvětšení: prakticky žádné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heptan, hexan, toluen, chlorbut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2-složkové směs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ethanol-vod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3-složkové směsi: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ethanol-voda-sůl : KCl, CaCl2, NaCl, CsCl, LiCl, K2CO3 , KNO3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říklad grafu- kinetika: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187280" y="1628640"/>
          <a:ext cx="6842160" cy="429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28640"/>
                    <a:ext cx="6842160" cy="42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říklad grafu- kinetika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114560" y="1701720"/>
          <a:ext cx="6914880" cy="407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1701720"/>
                    <a:ext cx="691488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li: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532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kalické kovy: mol.% soli: 0,362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871560" y="2349360"/>
          <a:ext cx="7399440" cy="388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1560" y="2349360"/>
                    <a:ext cx="7399440" cy="38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li: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1676520"/>
          <a:ext cx="8229600" cy="434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229600" cy="43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NaCl+KC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Další poku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řada methanol/voda s přídavkem obou solí v molárním poměru 1:1, tj. s mol.% NaCl 0,181 a KCl také 0,18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 roztoky s menším procentem methanolu se výsledky příliš neliší od aritmetického průměru vytvořeného z hodnot pro jednotlivé soli, při zvětšování množství methanolu převládne vliv KC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NaCl+KC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00000" y="1341360"/>
          <a:ext cx="6985080" cy="453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341360"/>
                    <a:ext cx="698508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NaCl+KC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042920" y="1341360"/>
          <a:ext cx="6985080" cy="453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341360"/>
                    <a:ext cx="698508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raslí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258920" y="1341360"/>
          <a:ext cx="6408720" cy="4175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341360"/>
                    <a:ext cx="6408720" cy="41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Nafion-struktura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03280" y="2490840"/>
            <a:ext cx="604836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Závěr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mentálně se chystáme měřit s roztoky dalších chloridů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 budoucnost přemýšlíme o způsobu měření třetího rozměru membrán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Využití Nafionu v praxi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ušičky plyn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ímo-methanolové palivové člán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Sušičky plynů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de o chem.rci sulfoskup.s vodo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ovlivňuje plyny vzork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ýjimka: amoniak, aminy, alkoholy, org.kyseliny a keton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schema sušičky Perma Pure"/>
          <p:cNvPicPr/>
          <p:nvPr/>
        </p:nvPicPr>
        <p:blipFill>
          <a:blip r:embed="rId1"/>
          <a:stretch/>
        </p:blipFill>
        <p:spPr>
          <a:xfrm>
            <a:off x="1835280" y="3776760"/>
            <a:ext cx="47527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ffffcc"/>
                </a:solidFill>
                <a:uFillTx/>
                <a:latin typeface="Tahoma"/>
              </a:rPr>
              <a:t>Přímo-methanolové palivové články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alivem článku je methanol, dochází k jeho oxidaci na anodě, přes několik reakčních mezistupňů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rovná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) článek s vodíkovou anod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) přímo-methanolový člán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ffffcc"/>
                </a:solidFill>
                <a:uFillTx/>
                <a:latin typeface="Tahoma"/>
              </a:rPr>
              <a:t>Přímo-methanolové palivové články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pis aparatury: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fotoaparát Olymp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udené svět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ermost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čítač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gram QuickPHOTO MICRO (QP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gram EXCE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Úpravy pro vodu: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nímky po nástřiku organických látek nejsou nijak uprave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 vodné roztoky třeba upravit - voda v podstatě funguje jako lupa, tzn. zkresluje výsled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stup úpravy: po ustavení rovnováhy se odsaje kapalina mikropipetou a membrána se nasnímá - rozdíl se odečte od rozměrů u snímků s kapalino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hyby, reprodukovatelnost měření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am QPM: délka úsečky (v mm) na 3 desetinná mí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i opakovaném měření: tato 2 čísla - rozdíl na 3.desetinném míst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i opakování celého pokusu včetně nového připravení roztoků se výsledky liší maximálně o 1,5%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1T05:26:10Z</dcterms:created>
  <dc:creator>Administrator</dc:creator>
  <dc:description/>
  <dc:language>en-US</dc:language>
  <cp:lastModifiedBy>Alenka</cp:lastModifiedBy>
  <dcterms:modified xsi:type="dcterms:W3CDTF">2005-10-27T12:13:43Z</dcterms:modified>
  <cp:revision>62</cp:revision>
  <dc:subject/>
  <dc:title>Nafion</dc:title>
</cp:coreProperties>
</file>